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whoosh.wav" ContentType="audio/x-wav"/>
  <Override PartName="/ppt/media/image7.jpeg" ContentType="image/jpeg"/>
  <Override PartName="/ppt/media/image6.jpeg" ContentType="image/jpeg"/>
  <Override PartName="/ppt/media/type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5.gif" ContentType="image/gif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010-8E5E-4F30-B57F-BDC98792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FA9-3EA9-45F7-BA09-53A27E6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632-F937-47EC-8A6D-9E344B3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079-7548-4BAD-A631-31E22EDB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4A84-4D23-44FC-8048-D692FF8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B554-5444-44DA-8D0E-93EB9BC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CF0D-E7A1-48E3-B39B-381DA3E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106F-192A-4EB6-9D93-DEBEB3F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46A-F2A1-4AB6-8A0F-A43288C9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2B23-61D2-4F77-938F-5876A57A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C455-C384-4375-B7E0-71AD526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48E-5766-44B4-A23C-364ED39A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B1C7-4CE9-40DF-AEEE-5CB8ABFE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26B8-7CC2-4514-A15E-BE06DD9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AFD-D13F-4D8A-B044-6938F534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D3E0-AD0E-46F6-9A7E-1A19B741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D1D8-ABD1-4E10-BB17-966ECCB5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8FB-4DAE-4E0A-8F35-4A6162A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3D4-8D57-4482-891E-07DAFC9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ABE-EE3A-44EA-87C4-3AE56BD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0E2-C269-4AE1-806F-183F172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16F-F429-41D8-993B-C4AF326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9A0-F7F9-41E7-AF29-CDB88FA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7FA-C473-46E0-8082-AD02F18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392-80EC-4A6B-9747-ED4B96F6AB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C8E-7CE7-4542-BE9C-396A39EA2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00200" y="190512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     </a:t>
            </a:r>
            <a:r>
              <a:rPr b="1" i="1" lang="zh-CN" sz="8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学会尊重</a:t>
            </a:r>
            <a:endParaRPr b="0" i="1" lang="en-US" sz="8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172000" y="126792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900" spc="-1" strike="noStrike">
              <a:solidFill>
                <a:srgbClr val="0000cc"/>
              </a:solidFill>
              <a:latin typeface="Tahoma"/>
              <a:ea typeface="黑体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5410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093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1790640" cy="1451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1979640" y="4221000"/>
            <a:ext cx="1714320" cy="14511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5796000" y="4581360"/>
            <a:ext cx="1714320" cy="1451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50920" y="2492280"/>
            <a:ext cx="180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021040"/>
            <a:ext cx="24112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4760" y="74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你和我一样，都是商人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197000"/>
            <a:ext cx="842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位商人看到一个衣衫寒酸的铅笔推销员，顿生一股怜悯之情。他不假思索地将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塞到卖铅笔人的手中，然后头也不会地走开了。走了没以几步，他忽然觉得这样做不妥，于是连忙返回来，并抱歉地解释说自己忘了取笔，希望不要介意。最后，他郑重其事地说：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"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你和我一样，都是商人。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645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年之后，在一个商贾云集、热烈隆重的社交场合，一位西装革履、风度翩翩的推销商迎上这位商人，不无感激地自我介绍道：“您可能早已忘记我了，而我也不知道您的名字，但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永远不会忘记您。您就是那位重新给了我自尊和自信的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一直觉得自己是个推销铅笔的乞丐，直到您亲口对我说，我和您一样都是商人为止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129528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没想到商人这么一句简简单单的话，竟使一个不无自卑的人顿然树立起了自尊，使一个处境窘迫的人重新找回了自信。正是有了这种自尊与自信，才使他看到了自己的价值和优势，终于通过努力获得了成功。不难想象，倘若当初没有商人那么一句尊重鼓励的话，纵然给他几千元也无济于事，断然不会出现从自认乞丐到自信自强的巨变。这就是尊重，这就是尊重的力量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7280" y="1514520"/>
            <a:ext cx="2540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99"/>
                </a:solidFill>
                <a:latin typeface="Times New Roman"/>
              </a:rPr>
              <a:t>被人尊重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40040" y="265752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51440" y="1209600"/>
            <a:ext cx="13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激发自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成就事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92720" y="2657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2480" y="1666800"/>
            <a:ext cx="971640" cy="368280"/>
          </a:xfrm>
          <a:prstGeom prst="leftRightArrow">
            <a:avLst>
              <a:gd name="adj1" fmla="val 50000"/>
              <a:gd name="adj2" fmla="val 5252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57280" y="1514520"/>
            <a:ext cx="2540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99"/>
                </a:solidFill>
                <a:latin typeface="Times New Roman"/>
              </a:rPr>
              <a:t>被人尊重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40040" y="265752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51440" y="1209600"/>
            <a:ext cx="13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激发自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成就事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92720" y="2657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92480" y="1666800"/>
            <a:ext cx="971640" cy="368280"/>
          </a:xfrm>
          <a:prstGeom prst="leftRightArrow">
            <a:avLst>
              <a:gd name="adj1" fmla="val 50000"/>
              <a:gd name="adj2" fmla="val 5252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692000" y="2657520"/>
            <a:ext cx="5602320" cy="779760"/>
            <a:chOff x="1692000" y="2657520"/>
            <a:chExt cx="5602320" cy="779760"/>
          </a:xfrm>
        </p:grpSpPr>
        <p:sp>
          <p:nvSpPr>
            <p:cNvPr id="386" name=""/>
            <p:cNvSpPr/>
            <p:nvPr/>
          </p:nvSpPr>
          <p:spPr>
            <a:xfrm>
              <a:off x="1692000" y="27338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cc"/>
                  </a:solidFill>
                  <a:latin typeface="Times New Roman"/>
                </a:rPr>
                <a:t>自尊自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94280" y="26575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cc3399"/>
                  </a:solidFill>
                  <a:latin typeface="Times New Roman"/>
                </a:rPr>
                <a:t>受人尊重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68800" y="2886120"/>
              <a:ext cx="971640" cy="419040"/>
            </a:xfrm>
            <a:prstGeom prst="leftRightArrow">
              <a:avLst>
                <a:gd name="adj1" fmla="val 50000"/>
                <a:gd name="adj2" fmla="val 4616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7280" y="1514520"/>
            <a:ext cx="2540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99"/>
                </a:solidFill>
                <a:latin typeface="Times New Roman"/>
              </a:rPr>
              <a:t>被人尊重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53880" y="4724280"/>
            <a:ext cx="23619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宋体"/>
              </a:rPr>
              <a:t>尊重他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940040" y="265752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51440" y="1209600"/>
            <a:ext cx="13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激发自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成就事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2657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0680" y="4038480"/>
            <a:ext cx="166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宋体"/>
              </a:rPr>
              <a:t>给人自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宋体"/>
              </a:rPr>
              <a:t>受人欢迎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宋体"/>
              </a:rPr>
              <a:t>被人尊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92480" y="1666800"/>
            <a:ext cx="971640" cy="368280"/>
          </a:xfrm>
          <a:prstGeom prst="leftRightArrow">
            <a:avLst>
              <a:gd name="adj1" fmla="val 50000"/>
              <a:gd name="adj2" fmla="val 5252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692000" y="2657520"/>
            <a:ext cx="5602320" cy="779760"/>
            <a:chOff x="1692000" y="2657520"/>
            <a:chExt cx="5602320" cy="779760"/>
          </a:xfrm>
        </p:grpSpPr>
        <p:sp>
          <p:nvSpPr>
            <p:cNvPr id="397" name=""/>
            <p:cNvSpPr/>
            <p:nvPr/>
          </p:nvSpPr>
          <p:spPr>
            <a:xfrm>
              <a:off x="1692000" y="27338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cc"/>
                  </a:solidFill>
                  <a:latin typeface="Times New Roman"/>
                </a:rPr>
                <a:t>自尊自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94280" y="26575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cc3399"/>
                  </a:solidFill>
                  <a:latin typeface="Times New Roman"/>
                </a:rPr>
                <a:t>受人尊重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68800" y="2886120"/>
              <a:ext cx="971640" cy="419040"/>
            </a:xfrm>
            <a:prstGeom prst="leftRightArrow">
              <a:avLst>
                <a:gd name="adj1" fmla="val 50000"/>
                <a:gd name="adj2" fmla="val 4616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741840" y="4343400"/>
            <a:ext cx="380880" cy="1434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080 h 1434960"/>
              <a:gd name="textAreaBottom" fmla="*/ 1397880 h 143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26920" y="1908000"/>
            <a:ext cx="749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情景设置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晚就寝熄灯后，有位室友还在用手机打电话，发短信，影响你睡觉，你已经好几个晚上没睡好了，怎么对他说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19160" y="115920"/>
            <a:ext cx="744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如何处理日常生活中的具体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46560" y="1260360"/>
            <a:ext cx="30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生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4645080"/>
            <a:ext cx="82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己的行为活动不影响他人的学习、工作和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86480" y="4343400"/>
            <a:ext cx="4190760" cy="21351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10480" cy="29131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28600" y="4344840"/>
            <a:ext cx="4343400" cy="21337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408" name=""/>
          <p:cNvSpPr txBox="1"/>
          <p:nvPr/>
        </p:nvSpPr>
        <p:spPr>
          <a:xfrm>
            <a:off x="2819520" y="3200400"/>
            <a:ext cx="3504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餐厅一角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0000" y="6019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尊是精神的生存者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尊重是精神的捍卫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981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归纳：</a:t>
            </a:r>
            <a:r>
              <a:rPr b="1" i="1" lang="zh-CN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0000cc"/>
                </a:solidFill>
                <a:latin typeface="Times New Roman"/>
              </a:rPr>
              <a:t>学会尊重应该学会哪些方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080" y="1773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会自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20720" y="234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尊重自己的言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19280" y="2987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塑造良好的自我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20720" y="36194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护自己一定的荣誉和社会地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8720" y="422100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自信心、进取心、责任心、成就感、荣誉感、满足感等积极的心理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20720" y="52974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会尊重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67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尊重他人最重要的九方面：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210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不当众指责他人的缺点和错误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信守诺言，尤其是守时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不直接也不轻易否定他人，不强迫他人接受自己的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观点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不背后议论他人长短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不随意打断他人的交谈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不随意打探他人秘密，并能替他人保守秘密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不轻易闯入他人生活或工作空间，使用他人物品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需先征得他人同意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穿着得体大方，尤其在公共场合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自己的行为活动不影响他人的学习、工作和生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4100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420" name=""/>
          <p:cNvSpPr txBox="1"/>
          <p:nvPr/>
        </p:nvSpPr>
        <p:spPr>
          <a:xfrm>
            <a:off x="609480" y="59436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街头乞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5805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同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617220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4572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启示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199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b90937"/>
                </a:solidFill>
                <a:latin typeface="Times New Roman"/>
              </a:rPr>
              <a:t>案例一：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进了高中以后，小刚学习很努力，但好几次考试都不及格，这是在初中学习时从来没有过的现象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050840" y="3846600"/>
            <a:ext cx="49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挫败感、恐惧、焦虑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51465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保持自信心、进取心、责任心、自尊、自爱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自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自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11280" y="3022560"/>
            <a:ext cx="67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小刚可能会怎么想，又会怎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022560"/>
            <a:ext cx="151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b90937"/>
                </a:solidFill>
                <a:latin typeface="Times New Roman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44942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卑、烦恼、厌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614988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成就感、荣誉感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满足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3764160" cy="5292720"/>
          </a:xfrm>
          <a:prstGeom prst="rect">
            <a:avLst/>
          </a:prstGeom>
          <a:ln w="130320">
            <a:solidFill>
              <a:srgbClr val="ff0000"/>
            </a:solidFill>
            <a:miter/>
          </a:ln>
        </p:spPr>
      </p:pic>
      <p:sp>
        <p:nvSpPr>
          <p:cNvPr id="425" name=""/>
          <p:cNvSpPr/>
          <p:nvPr/>
        </p:nvSpPr>
        <p:spPr>
          <a:xfrm>
            <a:off x="539640" y="1066680"/>
            <a:ext cx="388800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00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春节晚会上，一出由中国残疾人艺术团表演的舞蹈《千手观音》征服了全球电视观众，赢得了广泛的赞誉和尊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539424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尊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434340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55640" y="1747800"/>
            <a:ext cx="4033800" cy="3121200"/>
          </a:xfrm>
          <a:prstGeom prst="rect">
            <a:avLst/>
          </a:prstGeom>
          <a:ln w="130320">
            <a:solidFill>
              <a:srgbClr val="ff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642960" y="4973760"/>
            <a:ext cx="42800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国家主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胡锦涛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亲切接见领舞演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邰丽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221440" y="1020600"/>
            <a:ext cx="3527280" cy="4784760"/>
          </a:xfrm>
          <a:prstGeom prst="rect">
            <a:avLst/>
          </a:prstGeom>
          <a:ln w="130320">
            <a:solidFill>
              <a:srgbClr val="ff0000"/>
            </a:solidFill>
            <a:miter/>
          </a:ln>
        </p:spPr>
      </p:pic>
      <p:sp>
        <p:nvSpPr>
          <p:cNvPr id="431" name=""/>
          <p:cNvSpPr/>
          <p:nvPr/>
        </p:nvSpPr>
        <p:spPr>
          <a:xfrm>
            <a:off x="5110200" y="5884920"/>
            <a:ext cx="37828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艺术团在瑞士演出受到热烈欢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257800" y="990720"/>
            <a:ext cx="3527280" cy="2068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中国残疾人艺术团诞生于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1987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年，已经走过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18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年的辉煌历程，她足及祖国的山山水水，出访五大洲四十多个国家，奉献给世人非同寻常的表演艺术——我的梦。今年内地巡演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余个省份，并出访法国、马来西亚、新加坡、日本、意大利、哈萨克斯坦、澳大利亚、韩国等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个国家及香港特别行政区。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全年演出计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场，其中商演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场，义演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场；国内演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场，国外演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66560" y="2181240"/>
            <a:ext cx="4321440" cy="2832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是什么力量激励着中国残疾人艺术团创造如此辉煌的人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135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讨 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516720" y="303696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4000" y="249228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聋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以翩翩的舞姿与斑斓的色彩，描绘着内心的话语和搏动的血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4000" y="399564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盲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以悠扬的乐曲与欢奔的舞蹈，述说着眼前的世界和梦中的天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553068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肢残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以残缺的肢体与优美的造型，诠释着多彩的人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38080" y="19810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2743200"/>
            <a:ext cx="422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175248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千手观音的演员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用舞蹈向世人述说着自己的生命感受、述说着自己的生命体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用舞蹈维护着生命的尊严、维护着生命的神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225440" y="0"/>
            <a:ext cx="6875640" cy="4869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909800" y="4941720"/>
            <a:ext cx="662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热爱生活   自尊自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尊重他人   回报社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80880" y="106668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尊重，是一种修养，一种品格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一种对别人不卑不亢的平等相待，一种对他人人格与价值的充分肯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　　尊重，是一缕春风、一泓清泉、一颗给人温暖的舒心丸、一剂催人奋进的强心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只要有尊重在，就有人间的真情在，就有未来的希望在，就有成功后的继续奋进，就有失败后的东山再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83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b90937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990720" y="2133720"/>
            <a:ext cx="7391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i="1" lang="zh-CN" sz="8000" spc="-1" strike="noStrike">
                <a:solidFill>
                  <a:srgbClr val="ff3300"/>
                </a:solidFill>
                <a:latin typeface="Times New Roman"/>
              </a:rPr>
              <a:t>尊重自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i="1" lang="zh-CN" sz="8000" spc="-1" strike="noStrike">
                <a:solidFill>
                  <a:srgbClr val="ff3300"/>
                </a:solidFill>
                <a:latin typeface="Times New Roman"/>
              </a:rPr>
              <a:t>尊重他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66680" y="60948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Times New Roman"/>
              </a:rPr>
              <a:t>让我们学会尊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75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75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35280" y="2736720"/>
            <a:ext cx="5545080" cy="393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195640" y="3141720"/>
            <a:ext cx="439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谢谢</a:t>
            </a:r>
            <a:endParaRPr b="1" lang="en-US" sz="9600" spc="1" strike="noStrike">
              <a:ln w="12600">
                <a:solidFill>
                  <a:srgbClr val="ffffff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551664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在日常生活中应该怎样尊重自己和尊重他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762120"/>
            <a:ext cx="199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b90937"/>
                </a:solidFill>
                <a:latin typeface="Times New Roman"/>
              </a:rPr>
              <a:t>案例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170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与他人交谈时，他人的观点与你的有很大的分歧，你怎么办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2560" y="3286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马上打断他的话，表明自己的观点，与之争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2560" y="38606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不屑一顾，不予理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4226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让对方表明观点后提出自己的观点，与之讨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5410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测测你的自尊程度</a:t>
            </a:r>
            <a:r>
              <a:rPr b="0" i="1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A </a:t>
            </a:r>
            <a:r>
              <a:rPr b="1" lang="zh-CN" sz="2800" spc="-1" strike="noStrike">
                <a:solidFill>
                  <a:srgbClr val="c01d02"/>
                </a:solidFill>
                <a:latin typeface="Times New Roman"/>
              </a:rPr>
              <a:t>非常符合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B </a:t>
            </a:r>
            <a:r>
              <a:rPr b="1" lang="zh-CN" sz="2800" spc="-1" strike="noStrike">
                <a:solidFill>
                  <a:srgbClr val="c01d02"/>
                </a:solidFill>
                <a:latin typeface="Times New Roman"/>
              </a:rPr>
              <a:t>符合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C  </a:t>
            </a:r>
            <a:r>
              <a:rPr b="1" lang="zh-CN" sz="2800" spc="-1" strike="noStrike">
                <a:solidFill>
                  <a:srgbClr val="c01d02"/>
                </a:solidFill>
                <a:latin typeface="Times New Roman"/>
              </a:rPr>
              <a:t>不符合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c01d02"/>
                </a:solidFill>
                <a:latin typeface="Tahoma"/>
              </a:rPr>
              <a:t>D </a:t>
            </a:r>
            <a:r>
              <a:rPr b="1" lang="zh-CN" sz="2800" spc="-1" strike="noStrike">
                <a:solidFill>
                  <a:srgbClr val="c01d02"/>
                </a:solidFill>
                <a:latin typeface="Times New Roman"/>
              </a:rPr>
              <a:t>非常不符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感到我是一个有价值的人，至少与其他人在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水平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归根结底我倾向于觉得自己是一个失败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总的来说我对自己是满意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感到自己值得自豪的地方不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能像大多数人一样把事情做好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时常认为自己一无是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感到我有许多好的品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希望能为自己赢得更多尊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22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提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143000"/>
            <a:ext cx="7543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分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70160" y="4821120"/>
            <a:ext cx="344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800600"/>
            <a:ext cx="61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数越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尊程度越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0" y="-100440"/>
            <a:ext cx="574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90937"/>
                </a:solidFill>
                <a:latin typeface="Times New Roman"/>
              </a:rPr>
              <a:t>测测你尊重他人的程度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39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与别人约会你守时吗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C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一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不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不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外出参加活动，你在意自己的衣着是否整齐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一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不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不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朋友侃侃而谈时，犯了一个明显的错误，你不会立即打断并给他纠正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一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般不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完全不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朋友在苦闷之余找你聊天，告诉了一个他（她）守了很久的秘密，那你能保证决不会向第三个人提起这个秘密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肯定能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大概能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知道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大概不能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肯定不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71640" y="1052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提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98920" y="2093760"/>
            <a:ext cx="252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3541680"/>
            <a:ext cx="324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分数越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尊重他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程度越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75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3040" y="685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自尊的定义：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488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自尊指个体由肯定的自我评价引起的自爱、自重、自信及期望受到他人、集体和社会尊重与爱护的心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16676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自尊是一种评价和体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5053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宋体"/>
              </a:rPr>
              <a:t>自尊是人的心理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66760" y="509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自尊是一个人具有积极意义的品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5789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自尊与个体的自我价值有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2438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宋体"/>
              </a:rPr>
              <a:t>尊重他人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尊重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种较高级的需要，是指人际交往中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心理上尊敬和看中对方的人格、意愿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感、意见等的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态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尊重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我们个人是一种需要，对社会则是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需求，是调节人们相互关系的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德力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114300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宋体"/>
              </a:rPr>
              <a:t>维护他人的自尊</a:t>
            </a:r>
            <a:br>
              <a:rPr sz="4000"/>
            </a:br>
            <a:r>
              <a:rPr b="1" i="1" lang="zh-CN" sz="4000" spc="-1" strike="noStrike">
                <a:solidFill>
                  <a:srgbClr val="0000cc"/>
                </a:solidFill>
                <a:latin typeface="宋体"/>
              </a:rPr>
              <a:t>满足他人的自尊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16002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59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2:49Z</dcterms:modified>
  <cp:revision>42</cp:revision>
  <dc:subject>主题班会课件(分28大类): http://shop62905894.taobao.com</dc:subject>
  <dc:title>主题班会课件(分28大类): http://shop62905894.taobao.com</dc:title>
</cp:coreProperties>
</file>